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EEE-6104-4CCC-8046-B6F4732A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DD6-228A-49DD-AD12-0F9073D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CF681-650F-40FD-A42A-3E3D16F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CE850-F6CD-4C26-9DE6-EE618695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A2348-064F-4B27-8261-81CCCEC2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04E40-9BFD-420D-B429-187C633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EAEED-3333-44B1-A065-49E64CA3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C6879-AB64-4CED-8485-EB8EBCE6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D3CAB-7BB3-4741-9BE2-C4649041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124A7-84B5-4DD1-BA06-EADE206B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6C672-82EB-4E03-8D59-B9C632A5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D08F0-029E-4EDD-9AC9-542890A5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00F-11C8-4650-A661-968CA182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7E39F-D861-4E02-AE90-6F9C34C1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65439-C7BD-4690-A918-E20BBEB7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7B52D-ACA0-4AB2-8128-1C67F58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F9801-3785-49EF-8BD1-75EB22EA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1F8A5-1E9F-48B3-84F5-78AE136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1D4AA-D823-4D0B-BD05-391923C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FAC61-B598-4EFA-AD83-F2DCE51A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A8804-FC3A-42E2-897A-2717ACA9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028D4-E63E-4D6A-9A88-8B4C4D10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85241-42D9-4797-A30E-D00E9B30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3F5-018C-4F05-B4CA-7498DEBB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5C19E-5162-42BD-9119-4534098A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961BA-1ED4-4C02-8B27-711D2855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7103C-0836-4826-B4FB-E8C340B1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F9286-C5C3-41A5-8444-3388D7F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984C5-B7BE-40C3-99E7-45BA651A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E3782-7023-42BF-A3C2-2C467126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F9D3-F3FD-4260-8B61-3C61C9F5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C0B03-E83E-4576-B203-FA9E9DB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F476D-7FF7-44A2-A331-F48A240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57FEE-C9B7-47F6-A13C-6B09052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8485-33C9-4A9F-AD11-0331411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FA854-B9C6-46D9-B8E7-58B13FBD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A896A-1D15-41FB-86B9-1779F56A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DDA5F-8B75-4949-B06C-1F71D95D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41227-68C2-406F-A2EE-B6C37EE3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7AE7B-C78F-4B59-BF66-A1BF532B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AC237-69FA-4C9B-8F2B-E497DDA7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61D0E-BA1F-45CD-A532-BE5F35DF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7B706-8165-4E24-94B2-D98B94F4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FE2F8-C155-4D8D-AFB1-4D0D8ACA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8527B-584C-41A0-BE7F-CDF6D8C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5D85-7F1D-4D65-81BA-FEF0A291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027BA-5759-4EC2-B708-6BBBB24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B65D0-097F-4F9F-97DD-596F01A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4CBD8-7758-4541-8386-DCC3462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CC48B-5696-43AA-9CA6-1370B349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AC79C-9786-42DD-816C-9A39BF8B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1F76E-71F3-4FF9-A98C-ED529337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B7455-7318-4E47-A3C6-C5D37513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42A3D-648F-41C7-89F3-F02A707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A35C9-1501-40BA-B9EC-9B41C811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0A77F-4093-4BD1-AE6A-E7C1F40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611A-0D54-4ECC-9158-A7172750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AC1F9-AA8A-4FE9-8D2A-B7485138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E627C-E1E6-4DDA-9541-28E2CC9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1FB14-5202-41D1-96B0-1B45BB8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1E389-956B-4206-87A4-417F3F6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C8E38-E32F-47EF-A527-914CF79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274C2-0D51-40B4-AD6D-C6450A52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CAC18-CF9E-4395-911F-4DE31D22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126F0-B48F-4A5D-82C8-2F2F94DD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9C366-B177-4CB6-BED5-E9F1027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66215-B51B-419E-AB39-310395FF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23D9-D8A9-4B2F-B20D-02380198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5FFA9-6B75-41A8-B031-B7DE89D1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3B859-2E19-4F1A-ADBB-11B90DE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34A61-C729-4E66-ADB2-5D5260A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D507D-335F-48C7-9B4D-7E6E01E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CA0FE-5645-47E7-9AB1-ABB8277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462EA-51E4-43BB-BECA-C3D26D5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8B332-67F6-42B5-988C-A5FB7274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BC57B-B42C-434F-8F24-8E4DD928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06CF8-673D-458D-BD95-9D2B4F39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4BB4E-7C50-40C3-9CCA-52535872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D62F-218B-42CA-9872-A60E9766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FA31E-DD1B-46A3-BE78-D6A940E6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4484F-68F6-4E01-A046-B492546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C1D1D-20C2-487B-B989-3B581DC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0AE35-7255-4E3F-90BE-680281D4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F2D9E-AC0A-4D5B-BFDB-1060066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108EE-37C1-4D62-B696-78D28DF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E7841-77A8-4BFA-BF47-73804E3F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8545D-3871-4509-9D77-5CF9D9D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121CD-3054-41E2-96BE-E639322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E1B6F-8125-4D40-82B6-E46DD9FD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84D8-8A4F-4754-8B28-D43E5DD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60D12-5B1C-46F5-ABA8-74A7770D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308B7-1B4B-42F1-B23C-FA3126B6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6C139-D307-4A7E-A6C1-01C709F3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B216C-558E-490A-9044-1644BEF8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E61F9-ABA9-45FA-9C14-20730DC8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B8E1C-F4E8-496D-B6B0-F091CF80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EF2AF-12B2-4ACC-88B0-1F6FEB45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1F52F-ACB4-4B66-AE42-F26A5B4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75990-347A-40C6-9726-6BE9A21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ADD5B-A0FD-47DA-A77A-F4AC644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6F7F-E5B3-40E8-B550-CC1CB4B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C737A-9A5A-4024-8FD7-EBA04A3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F0D40-C8DC-410B-836F-1FFF67CE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48A6E-0CD9-4B92-A0BB-FD6A7C53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000C5-0CE2-4452-8E96-ACD0E66E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DAB80-953D-4F0D-AFDB-B823B53B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618E8-1C8E-4FB1-9763-B7EAA4C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C91FA-3475-4429-AF89-F217EB67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6CAA3-772F-48EB-BA01-9BB4D19C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72B7B-CF29-498C-B0CF-73F5E49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4FE5A-BB8D-43D6-895E-5E20B82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95E-57E2-4879-B570-AB379E3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EED6-32B4-45BC-A62C-3059BFA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7601B-0D56-4EB3-BDC0-05AA1F66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654B7-1C1C-4B3D-AC4A-EA483E5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9021A-FCE4-4173-AACE-E076933E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8022D-11E3-4FBA-92C5-D35ED6A2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F7508-6AF9-4208-A9A4-64DE4B0F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F64E5-D1BB-44C8-99A0-CEECB1DF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89C14C-5C94-4819-B83A-5AA2EC77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98724-D4AE-40FE-BFAE-329EFD12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37F7F-E3E8-43C9-8FE9-F4F666E5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5D5FD-8928-4CA6-B1D3-1381D71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EDCA-6940-4355-9BE0-DD0F23D0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EE529-22F6-4B69-BA07-31B868DE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8E0ED-CD1E-4D4B-8002-DF6CDA1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2AF29-22BF-4816-B49D-11043D95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31338-8D6C-4DB6-B8AF-12BC063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02024-CC57-47C2-8953-2A986DE6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BB4B4-FA74-4333-BE12-3AAFEC6B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28C51E-3DA6-441B-BA16-E81A5A3E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83FF2-53F4-42A2-B162-AD5B0532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785662-35D0-434C-907E-C65249D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B8BB2-A268-4D05-86D9-00901C1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057-842C-401C-8B9B-6A368DB9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0FFD5-3778-472E-A294-071DC0D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364B5-E25D-471B-95B1-AD58C8CA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BFD3A-B77F-40DB-83E3-CF1926D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38785-5DDE-4F8F-BAA6-C033EB4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02FB6-227A-4E95-96C4-EE5A366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78311-5780-48F2-9D1E-4A7F9787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F32008-BDAC-41CC-A04B-5FDE35FA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9C6D1-0783-4185-A3C9-2911ED9D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5D4AB-AFA2-4304-98DA-92080281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096F9-9751-41E3-8BFB-9A7D1903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4B5F-01CB-422B-8FB2-9E6CC2D5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0E7E5-2CCC-4CDE-A4E1-39F927F1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49E31-12CD-40DB-B5B1-8AD0CD28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F5267-2126-4090-8AEA-F12C0537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1469C4-107B-45C2-A559-D46FE12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5E5CD-EC09-45BC-9F6C-FABB550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5EA02-7112-4643-AF17-4689BE0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7FC34-DC1A-44FD-B2FF-4858F0A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9D0F4-4034-4F61-BC63-2155504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FD19C-E4DA-4E76-9382-486DFF7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C3D78-0665-41C5-9B40-09F27502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4FF-4F39-4FEB-8AD5-A3C06424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A3E1C-4940-4533-A0DE-CF33881D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F1003-A362-434F-8569-51E7348F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74B60-E062-4438-A8CF-70244425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CC4D9-9140-4CEB-8A50-5C14D596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6528C-2FE4-44BD-94C1-1AE3D30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2AB1E-9EB0-4819-93A2-CFEAE0C6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6D6D2-4850-4DE1-B5A5-07A411A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C68BF-AEA8-4D76-B9F4-DE67EFD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2B800-A7CB-485A-874E-64F6929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94ADB-0CE0-42EE-96B6-8956BD1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5A30-B8C0-4AB4-8C67-B8A11CAE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DFD38-472C-4133-B6F4-4854AECA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99C8A-2EF3-4075-A736-1422A309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8280F-D354-4F68-8062-B30A5E94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0748-B34A-46E8-9029-E296F5E0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4888-C2F6-490F-AA53-98BA1E87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ABF6-8993-48FD-B030-BC0A80EE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B319-8164-4EC3-BCFC-043FC47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EDD-E8BD-407F-9467-4797131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5F7F-69F4-4B7F-87E9-352A0DB2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E6BA-168A-4E6F-9701-38A8B6C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8270-35E2-4161-B601-BA59F368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33AE-CF60-4A8C-8CA0-A0E79FD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5030-88D2-470C-AE2E-10FB8D5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BA79-5BF4-4F23-AF8F-67C597AA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F28D-6CB2-4245-A9F9-3B1FD18F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54A3-3964-4441-9327-37DC99EB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A779-7460-4DBA-8A60-657AF777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A857-3011-4A22-BA9F-311A5C4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A74-58A7-4664-9A21-694464F8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6EC8-339F-4C6D-96CE-763BF3E6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E08A-3A0E-41E7-8C3A-5EF0F96B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8CA7-64E1-4FAF-9448-B86C1CA3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802D-ECDD-474A-809C-8F85A3D8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BD6F5-BCD8-45F0-BDBE-6B81AF15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2FEE-3B3A-4C60-BA83-C79822E9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299A7-D75D-42A4-B14E-D7A1C836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D685B-5494-4084-9060-27EF7DD5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1AAF-71FA-4DFC-8849-2518D920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C1021-DED9-43D3-8C6A-8058D2E6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1C0-4B7C-4A68-9426-EEA857C5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33DD-9E61-438D-9D14-83562A77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A0A5-B4DA-4D03-8405-7721CF4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448EA-3F53-4DEE-BDB9-91E69C69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DB05-1994-450D-B00B-C74257C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0BBD4-C757-4BAD-B0CF-17A81DB7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57C3A-6CFF-42DB-AA0A-C0816D0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808F4-C1D5-494C-BBF2-3E73AF0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A5BA-C496-4DDD-9D1F-6914E40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2F8C-F4F6-47ED-9337-7A742044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B124-96B0-4491-882A-4F6700FE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20E-AD80-4339-8C05-0343BB75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0553-9D8C-41E9-A8EB-6D6E9A02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AE4B-70F8-497E-81D1-EB4F043F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43489-856E-4064-8939-60F03502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86A30-7641-4EC5-B223-612CC906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9132-A826-418B-9887-65D61EF2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EB7E-A4E0-4047-B59A-EDDAD4E3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C7EF6-D8F0-4103-9490-A54774B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6CB1-D869-4DB5-9259-B1F7FD8F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5A2C3-D7D4-4C9D-98DE-EFDB66C9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45C7D-B179-41B5-A4A1-99A08EC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421-9D0F-40EA-88ED-E9D9E008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84FE4-966C-43A4-8E63-D8E3686F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D37A-6C8C-4CA2-B440-FCC7D612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EE4C-F2C0-41D4-A763-449563FE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382E5-4A7D-4EBD-AD60-9826A8A2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8C9B3-4146-4A39-A456-B9F9D6D7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882B-C654-4DF1-80B8-A4BB3FF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681F-D093-485A-8781-F497BDEE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0F88-E3D5-46B2-89E3-FF9E9EE3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F8B2-A602-45BE-BF94-48927B77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16D2-0584-4D71-925E-D5EA98B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BDB-9178-4069-BC6B-64C90631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37830-DCCD-4B26-9F66-D6356F8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F0AB5-15E3-4A10-A725-C52F12B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9EEAB-2F59-4006-9E3A-5E273C61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C1B7E-097F-4D5C-8595-9DC2B9FF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4980-F3D9-4ED6-9A5D-9754B76F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A99E5-B98E-4741-BD98-9D98D5C3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336B2-6FFF-454E-9051-E13060C1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1B5B0-41E5-4FD5-922A-C8B248B3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3720-FAB6-4941-82A0-AC2A5182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3558-570E-4D9D-B9CC-5CBBB3C4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9DE-9471-4A03-92EC-BB6C9F7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CBC1B-9E62-48A8-960F-723C9DD4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4D54-8EDA-497B-BEA4-5E79615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A4779-872D-42A3-AA01-B54ADD3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66E82-7887-4FBC-BA36-5FCE18D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21C10-823E-4383-8F83-53A9A94B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EE870-E842-4B1D-986E-2312AE14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1C84-3E94-4447-96BE-F8172939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A1F67-7835-4D26-9F44-4052CD4F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61475-312B-4D40-BE49-28C5EC5A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2CF9C-E83B-409A-86FB-CA4B6AF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46D1-62D9-400F-92CD-29B5DD315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62D-0BD5-459C-9704-92AE26022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16A0-282F-4119-8556-A50FA9430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C5AE-5F7F-430F-B74D-13F59238CF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05E-FBD5-4541-ABBB-14A08E8CF3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0561-29FD-4681-BA88-34ECD252F0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FC82-141F-40A6-A0CA-A27C28FD6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8766-D9E2-43D3-BE31-DC9D5A9CB2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465-05AE-469A-B1AE-5117845E6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4CEC-B096-400A-9DCD-0A592D4AE7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31D1-2970-45A4-95A2-0DBD613C7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90FC-4284-4EFB-9119-6F5F2AFE05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88E8-3B39-4D0C-B570-7E42BD213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BB30-46EF-4361-81B9-24E9D3033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76CA-35CF-4D4C-8C46-95C89F8B6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4DF1-FBB6-432F-96B2-3329470F24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5EBF-69D0-437E-BD77-548B850914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2EE-E36A-4DFF-86F5-2C0BEEDF2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C96D-5B87-4A5B-A353-BFE3001AD3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E68-E84F-44A8-92E2-9D0A09BAA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E33-6181-41EF-9D86-B0A0C2B21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62D0-2E58-45A1-A4AA-55D7F8AAA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5C50-AA39-4344-8B4B-05B139BE0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5D7-5166-4041-9432-D47F74C1F2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CBB8-03FD-4DCD-AFA2-A8E0014482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1BEA-5A30-41F5-AC82-719637F01A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00E8-6857-4BB4-8080-D1428E549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1DE0-B68E-4E94-9A27-DDA6B167A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C75-07C7-4D70-AEF4-1CFCE040E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00A0-B621-4A8C-9243-DA89423005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6296-5981-4847-BAFA-57D117E8E0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7130-CF9A-481B-999C-79214986E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7E8-3370-421C-AFFC-FA46AC4A07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947-46E3-400A-8D24-A71334FE2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97E-8FFA-45A3-B046-86F99700FF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F99-74C0-4038-BD76-27C5DD2B5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FCF-E1C5-4BF6-A9AC-2908C33B3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2D1-FEA2-4195-BFC2-83BC18B49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AB3-F314-4BD9-AEDD-3B846F63F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8B5-DA12-4938-9240-C1A7B4CC2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76400" y="3110040"/>
            <a:ext cx="69912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20240" cy="61437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786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86480" cy="578196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071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928800" y="2314440"/>
            <a:ext cx="7286400" cy="222912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1214280" y="242892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10520" cy="563904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4083120" y="14749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2857680" y="2643120"/>
            <a:ext cx="20714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6072120" y="37861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5511960" y="4925880"/>
            <a:ext cx="1500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4000680" y="600084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19120" y="1162080"/>
            <a:ext cx="8105760" cy="453384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2908440" y="1806480"/>
            <a:ext cx="1234800" cy="387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3000240" y="300024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2928960" y="4071960"/>
            <a:ext cx="1571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1071720" y="4643280"/>
            <a:ext cx="2143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2071800" y="52149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10520" cy="586764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2928960" y="492912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6715080" y="492912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4071960" y="550080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"/>
          <p:cNvSpPr/>
          <p:nvPr/>
        </p:nvSpPr>
        <p:spPr>
          <a:xfrm>
            <a:off x="4429080" y="60721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6"/>
          <p:cNvSpPr/>
          <p:nvPr/>
        </p:nvSpPr>
        <p:spPr>
          <a:xfrm>
            <a:off x="7286760" y="60721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490680" y="1628640"/>
            <a:ext cx="8162640" cy="36007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1154160" y="216864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7072200" y="27147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1071720" y="38577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4429080" y="385776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6"/>
          <p:cNvSpPr/>
          <p:nvPr/>
        </p:nvSpPr>
        <p:spPr>
          <a:xfrm>
            <a:off x="5429160" y="442908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0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